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04EA-AF50-4B61-8AF4-C1AB7A21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640-545E-481D-B716-989F38B7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68A-78CD-4150-9836-26C0736D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8AB9-20BC-456B-9BA7-34BD03D2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9C6C-C703-4C34-8F51-4ADA87C0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6058-9AC6-4E74-BA11-919E4C1A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AEEC-CC07-4F70-85CA-0E2FF2D5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0389-B462-4884-9028-DF54F877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BFEA-B5EE-4B39-A8CC-D649790F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EB88-A14C-436B-8C7C-41BCC2A3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EDF0-6FC5-436B-AC0B-36D53A57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5939-106B-4328-87A7-ADA9AEC3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5248-9778-43D5-8202-3394200E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369F-643A-4AB8-8340-F967BFAD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F3B2-D081-4A15-A5F6-D37CF9D8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5826-EE12-441C-859B-4D94B580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A287-072E-4025-9085-6654ABB2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718-3C40-4F4C-9B4F-0AB21DA4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8C25-128B-4DDF-B5E9-90CCCA7F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9A2-9564-4A9A-B0F7-3F91CA0B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95E3-4EA6-47CF-9FDF-5A8037EC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93B6-6A95-4B8D-AEA9-7AF192FF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5AD4-A9BF-41DF-A0CB-21D67E93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E7A6-E288-4BE0-A6CD-50BD428A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8B19-80AD-44B6-85D2-843459FFAA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A46F-94D9-45D7-9B29-3D5076A58F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0033"/>
                </a:solidFill>
                <a:latin typeface="Arial Black"/>
              </a:rPr>
              <a:t>Наши земляки.</a:t>
            </a:r>
            <a:br>
              <a:rPr sz="4800"/>
            </a:br>
            <a:r>
              <a:rPr b="0" i="1" lang="en-US" sz="4800" spc="-1" strike="noStrike">
                <a:solidFill>
                  <a:srgbClr val="990033"/>
                </a:solidFill>
                <a:latin typeface="Arial Black"/>
              </a:rPr>
              <a:t>Герои Советского Союз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КАВАЛЕРЫ ОРДЕНОВ СЛАВЫ 3-Х СТЕПЕНЕЙ,ПРИРАВНИВАЮЩИХСЯ К ГЕРОЯМ СОВЕТСКОГО СОЮЗА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ИТНЕБИ АБДУРАМАНОВ — ро­дился в 1914 г. в деревне Биюк-Каралез Бахчисарайского уезда, гвардии старший сержант, командир отделения разведчи­ков маршевой роты 37-й стрелковой ди­визии, кавалер ордена Красной Звез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СЕИТ НЕБИ АБДУРАМАНОВ"/>
          <p:cNvPicPr/>
          <p:nvPr/>
        </p:nvPicPr>
        <p:blipFill>
          <a:blip r:embed="rId1"/>
          <a:stretch/>
        </p:blipFill>
        <p:spPr>
          <a:xfrm>
            <a:off x="838080" y="1981080"/>
            <a:ext cx="280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320040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ажды Герой Советского Союза АМЕТХАН СУЛТАН - родился 25. 10 1920 г. в г. Алупка Крымской АССР семье рабоче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Amet Han S.jpg"/>
          <p:cNvPicPr/>
          <p:nvPr/>
        </p:nvPicPr>
        <p:blipFill>
          <a:blip r:embed="rId1"/>
          <a:stretch/>
        </p:blipFill>
        <p:spPr>
          <a:xfrm>
            <a:off x="762120" y="1752480"/>
            <a:ext cx="3552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БДУРАИМ РЕШИДОВ - Герой Со­ветского Союз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дился 08. 03. 1912 г. в деревне Мамашай Севастопольского уезда. В 1934 г. окончил Одесскую военную летную шко­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АБДУРАИМ РЕШИДОВ"/>
          <p:cNvPicPr/>
          <p:nvPr/>
        </p:nvPicPr>
        <p:blipFill>
          <a:blip r:embed="rId1"/>
          <a:stretch/>
        </p:blipFill>
        <p:spPr>
          <a:xfrm>
            <a:off x="1143000" y="1828800"/>
            <a:ext cx="3005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БДУЛЬ ТЕЙФУК- родился в 1915 г. в деревне Партенит Алуштинского района в семье крестьянина. По окончании педагогического техникума в 1935 г. работал учителем в средней школы, заведующим школы и школьным инспектором Алуштинского райо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АБДУЛЬ ТЕЙФУК"/>
          <p:cNvPicPr/>
          <p:nvPr/>
        </p:nvPicPr>
        <p:blipFill>
          <a:blip r:embed="rId1"/>
          <a:stretch/>
        </p:blipFill>
        <p:spPr>
          <a:xfrm>
            <a:off x="1143000" y="1676520"/>
            <a:ext cx="30830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рой Советского Союза АБДУРАМАНОВ УЗЕИР АБДУРАМАНОВИЧ родился 25. 03.1916 г. 1 с. Новоандреевке Симферопольского района Крымской АССР в семье крестьянина. В 1933 г. окончил школу ФЗУ, работал кулинаром, в Советской Армии с 1939 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Абдураманов Узеир Абдураманович.jpg"/>
          <p:cNvPicPr/>
          <p:nvPr/>
        </p:nvPicPr>
        <p:blipFill>
          <a:blip r:embed="rId1"/>
          <a:stretch/>
        </p:blipFill>
        <p:spPr>
          <a:xfrm>
            <a:off x="457200" y="2438280"/>
            <a:ext cx="434340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ЙТНАФЕ СЕИТВЕЛИЕВ -родился 29. 05. 1919 г. в д. Тав-Кипчак Карасубазарского уезда (ныне Белогорский р-н, Крым). Старший сержант, командир рас­чета 45 мм. пушек истребительно-противотанковой батареи 350 стрелкового пол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СЕЙТНАФЕ СЕИТВЕЛИЕВ"/>
          <p:cNvPicPr/>
          <p:nvPr/>
        </p:nvPicPr>
        <p:blipFill>
          <a:blip r:embed="rId1"/>
          <a:stretch/>
        </p:blipFill>
        <p:spPr>
          <a:xfrm>
            <a:off x="838080" y="1905120"/>
            <a:ext cx="289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рой Советского Союза ФЕТИСЛЯМ АБИЛОВ — родился в марте 1915 г. в дре ревне Шейх-Али Джанкойского уез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питан УМЕР АКМОЛЛА АДАМАНОВ — Герой Польской Республики. Партизанская кличка — "Мишка-татарин". Родился в с. Айвасиль Ялтинского уезда, капитан гвардии Людовой, коман­дир советско-польского партизанского от­ряда им. Котовского, который в годы Ве­ликой Отечественной войны действовал на территории Польш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БИЛОВ АНАТОЛИЙ АБИЛОВИЧ -командир 130-го гвардейского стрелкового полка 44-й гвардейской стрелковой диви­зии 65-й армии 1-го Белорусского фронта, гвардии подполковн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дился 15 марта 1915 г. в деревне Джадрашели, ныне село Ударное Джан­койского района Автономной Республики Крым (Украина), в крестьянской семье. Крымский татарин. Окончил 7 классов. Работал трактористом в колхоз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Анатолий Абилович Абилов.jpg"/>
          <p:cNvPicPr/>
          <p:nvPr/>
        </p:nvPicPr>
        <p:blipFill>
          <a:blip r:embed="rId1"/>
          <a:stretch/>
        </p:blipFill>
        <p:spPr>
          <a:xfrm>
            <a:off x="990720" y="1371600"/>
            <a:ext cx="3078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5-10-21T16:23:4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